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drumroll.wav" ContentType="audio/x-wav"/>
  <Override PartName="/ppt/media/arrow.wav" ContentType="audio/x-wav"/>
  <Override PartName="/ppt/media/image3.gif" ContentType="image/gif"/>
  <Override PartName="/ppt/media/image7.png" ContentType="image/png"/>
  <Override PartName="/ppt/media/bomb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B0B1-CBE1-4F6F-9E75-7C4BD5C0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7EF-82BC-48CE-972F-1CF2635F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F24-1D82-4754-8C32-F0449C41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415-8329-4493-ABC3-283152CC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7A8F-1DE7-43C4-B9AC-8DAA6E45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0169-0B77-4EA8-BEF7-C1AB59C7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0BF9-BE7D-4907-A38D-3550079F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7114-3070-4BD7-9702-8567E3AF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593B-795B-4670-AB84-4B3EC0C1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2424-32A9-4E6D-8354-610E82C4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F5E7-3DDC-4B56-B758-2815A8EA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2AF-12CF-40F0-881E-0A0F297E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68A7-20A8-4276-A427-ECEEE223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5A52-19B9-42FB-A0EB-473606B4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0BCD-EA05-4AC7-9A66-ED578AC7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552C-A271-46F8-AD43-F53183AE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8F34-6810-49CD-8EF1-FACC5DF3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4C0D6-78E9-40F2-87FB-83E871DB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C05E-D25E-4E7C-AC10-614B667B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8362-C1E4-4870-8F67-11F508E3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F9BB-80BE-4C03-AB58-8CA4A03D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FE02F-D2C6-49B3-A27E-E8816AC1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052-227B-4E50-892B-56F22BE1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D366-1C83-42B6-840D-FBCD4E01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6E60-B3B6-45C9-A1FF-9704DA2A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25BA-DC1F-493B-8D9A-007D872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DA66-8548-43BE-9273-20F1CC68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901B-0F60-4514-9EF6-BAF80FF4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0A49-3539-4430-8491-BB372AA6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33E3-B646-4E38-9FBC-0E53FF80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D1E9B-2ACB-43CB-9F36-8CC54034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D4A1-FA5C-475C-8031-3BCE6EAF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60AB-782B-4B1C-88CB-5B88C64B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506-6DD5-466D-9833-27F33B6C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0885-C547-41BB-A9DD-96F11894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602CC-60E3-4474-9A65-B44ADE5E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316F-89A7-4156-A84A-8484D96C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A677-05E8-4B44-AA65-1B473E28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FBE55-3117-4C66-9598-98BF253D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4841-E233-4B05-B88A-FF56B3A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EC6D-B3EB-4F56-AFC1-54D0835B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0BCD-5521-4C4F-A5CC-689D3B13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4287-735C-42CC-9261-A04530C1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93A64-A2DD-4F4B-AC89-28712F8B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9DA-F0CA-4B82-A48D-8BD8D179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8DDA-697E-4BA8-9C2A-6A3785D0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B989A-93F0-4848-8805-CBAA4636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279AB-E437-4B53-95F7-5DEB0E30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A3967-5890-47C4-957F-AB1563E4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15EB5-DC62-485F-9081-5CA75CA7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72D86-B30F-4FBC-B4E6-7C73D33F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75062-0052-466A-9A03-7E15264D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682B-C60C-4FF0-969A-13C2658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DA1D-AFCF-4649-9F0B-B50FD7F4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F860F-3E1B-4529-AE83-EDA3A983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2F4-8C2D-490E-9578-3AB6E275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6B9B5-A4DE-4F83-B776-139DFFB9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0387-1F17-4E89-8B88-DD38E831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0C68B-A83C-404B-9A0E-4634C89E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2E48E-4ED2-4F2E-9D75-8BD66FFC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5A085-19F8-41B1-BCD7-EEF9FDC1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AAA4B-B77F-4E88-89CD-7354E040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5E52A-8D9C-4C62-95C8-5297D2EA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592D-2391-46C3-96CF-4E00F797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4E91B-359C-475A-8DBB-010DBDAE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9E3CD-3074-4D97-9AF0-9882C639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114-3CEA-4F6A-B1A4-9A86B609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2A152-0004-475C-B1C3-900EA9D9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5E648-DBF4-463B-94D0-AA100374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26C20-2675-418C-A263-3322AD86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7A529-5634-4A67-9A44-C8CA3040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2A428-4544-4DA8-9769-E4694100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4ACC4-203A-40BD-89BD-EE6ABBC2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2B66-4926-44CE-84D8-F004A92D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2D948-DA79-4171-92B2-6F33B4B3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217D5-D80D-408E-949E-C3241C62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D4728-2FF9-4E09-9DD0-54B2733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FFF-E13D-40B6-93F6-33EDD9C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0E1CB-9BCF-465F-9CF1-B7263913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31A3-E8FB-48DB-A492-94587E2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E6B91-30DD-4F3A-B4B7-E587E9AC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AE0C3-2EC5-4A5D-AF27-2A32140D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B1B40-5711-4EDC-AA8A-FCC11A36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741-5E5E-44C5-B991-A1181667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DD5F-1315-4CFA-B13A-2DF31D8CB49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60F3-B26F-4725-803E-D3E88C8C111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1ECC-1C56-464D-A0F5-04311615DFA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757-0B59-4C0B-88BC-F065622A621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02C8-0B75-4DF4-A6DE-5A65BA84910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135-92C4-4CAA-BC08-EACBB269B49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E79A-0DEB-46D6-8FFD-F0938B79C1A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347760" y="285840"/>
            <a:ext cx="8119800" cy="42735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By :</a:t>
            </a:r>
            <a:r>
              <a:rPr b="1" lang="en-US" sz="2000" spc="-1" strike="noStrike">
                <a:solidFill>
                  <a:srgbClr val="ffffff"/>
                </a:solidFill>
                <a:latin typeface="Castellar"/>
              </a:rPr>
              <a:t>Windell.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stellar"/>
              </a:rPr>
              <a:t>Illustrations by :The comput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3" descr="home_collage.jpg"/>
          <p:cNvPicPr/>
          <p:nvPr/>
        </p:nvPicPr>
        <p:blipFill>
          <a:blip r:embed="rId2"/>
          <a:stretch/>
        </p:blipFill>
        <p:spPr>
          <a:xfrm>
            <a:off x="2127240" y="4187880"/>
            <a:ext cx="466416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7828200" cy="52783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eople also have the right to bear weapon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individually and collectively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right is also presented in the context of </a:t>
            </a:r>
            <a:r>
              <a:rPr b="0" i="1" lang="en-US" sz="3200" spc="-1" strike="noStrike">
                <a:solidFill>
                  <a:srgbClr val="ffffff"/>
                </a:solidFill>
                <a:latin typeface="Corbel"/>
              </a:rPr>
              <a:t>military servic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lso shown to the broader righ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self defens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The 2</a:t>
            </a:r>
            <a:r>
              <a:rPr b="0" lang="en-US" sz="3800" spc="-1" strike="noStrike" baseline="30000">
                <a:solidFill>
                  <a:srgbClr val="c1eeff"/>
                </a:solidFill>
                <a:latin typeface="Consolas"/>
              </a:rPr>
              <a:t>nd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 Amendment 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Picture 3" descr="soldado-2_4.gif"/>
          <p:cNvPicPr/>
          <p:nvPr/>
        </p:nvPicPr>
        <p:blipFill>
          <a:blip r:embed="rId1"/>
          <a:stretch/>
        </p:blipFill>
        <p:spPr>
          <a:xfrm>
            <a:off x="5181480" y="2895480"/>
            <a:ext cx="2076480" cy="192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4000">
    <p:zoom dir="out"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705960" y="1350720"/>
            <a:ext cx="7218360" cy="45925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mendment was signed in        September 25,1789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ames Madison was the author of the 10 Amendm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Part 2       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The 2</a:t>
            </a:r>
            <a:r>
              <a:rPr b="0" lang="en-US" sz="3800" spc="-1" strike="noStrike" baseline="30000">
                <a:solidFill>
                  <a:srgbClr val="c1eeff"/>
                </a:solidFill>
                <a:latin typeface="Consolas"/>
              </a:rPr>
              <a:t>nd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 Amendment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Picture 3" descr="JamesMadisonJF62s.jpg"/>
          <p:cNvPicPr/>
          <p:nvPr/>
        </p:nvPicPr>
        <p:blipFill>
          <a:blip r:embed="rId1"/>
          <a:stretch/>
        </p:blipFill>
        <p:spPr>
          <a:xfrm>
            <a:off x="4267080" y="2895480"/>
            <a:ext cx="4165560" cy="396252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e citizens should not have the rights to bear arms because a citizen might get angry and shoot some one over a cup of tea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nother reason is because if some one hears a gunshot they'll pull out there gun and start shooting for no apparent reason and no ones shooting at them!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56840" y="512280"/>
            <a:ext cx="79246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1eeff"/>
                </a:solidFill>
                <a:latin typeface="Copperplate Gothic Bold"/>
              </a:rPr>
              <a:t>amendment 2 rights to bear arms should be abolished because 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Picture 4" descr="1860riderpistol.gif"/>
          <p:cNvPicPr/>
          <p:nvPr/>
        </p:nvPicPr>
        <p:blipFill>
          <a:blip r:embed="rId1"/>
          <a:stretch/>
        </p:blipFill>
        <p:spPr>
          <a:xfrm>
            <a:off x="6324480" y="4724280"/>
            <a:ext cx="2514600" cy="1938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edge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446960" cy="4897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68440" indent="-514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Now people go into stores and rob places for money and for other valuable items such as jewelry clothing and sho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68440" indent="-514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hildren come into school with guns in there shirts and creating gangs through out the schools of Americ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6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What’s happening now?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Picture 3" descr="le-mat-revolver.jpg"/>
          <p:cNvPicPr/>
          <p:nvPr/>
        </p:nvPicPr>
        <p:blipFill>
          <a:blip r:embed="rId1"/>
          <a:stretch/>
        </p:blipFill>
        <p:spPr>
          <a:xfrm>
            <a:off x="5372280" y="4648320"/>
            <a:ext cx="355572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  <p:sndAc>
      <p:stSnd>
        <p:snd r:embed="rId2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6913800" cy="4897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My personal opinion is that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mendment  should be abolished because in some states now this is still aloud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lso people are getting killed because of this law and just because they want to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Gangs are also being formed and walking around with gun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What I think?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Another reason is the 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Virginia TECH </a:t>
            </a:r>
            <a:r>
              <a:rPr b="0" i="1" lang="en-US" sz="3200" spc="-1" strike="noStrike">
                <a:solidFill>
                  <a:srgbClr val="ffffff"/>
                </a:solidFill>
                <a:latin typeface="comic"/>
              </a:rPr>
              <a:t>TRADGEdY </a:t>
            </a: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that probably wouldn’t have happened if there were no gun shops unless you have a license and registration for hunting animal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(This tragedy happen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All across the world!!!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Part 2          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I think?   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4" descr="242050.jpg"/>
          <p:cNvPicPr/>
          <p:nvPr/>
        </p:nvPicPr>
        <p:blipFill>
          <a:blip r:embed="rId1"/>
          <a:stretch/>
        </p:blipFill>
        <p:spPr>
          <a:xfrm>
            <a:off x="7004160" y="3498840"/>
            <a:ext cx="1974600" cy="3114720"/>
          </a:xfrm>
          <a:prstGeom prst="rect">
            <a:avLst/>
          </a:prstGeom>
          <a:ln w="0">
            <a:noFill/>
          </a:ln>
        </p:spPr>
      </p:pic>
    </p:spTree>
  </p:cSld>
  <p:transition advTm="7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2:50:08Z</dcterms:created>
  <dc:creator>bros 4 life</dc:creator>
  <dc:description/>
  <dc:language>en-US</dc:language>
  <cp:lastModifiedBy>bros 4 life</cp:lastModifiedBy>
  <dcterms:modified xsi:type="dcterms:W3CDTF">2008-05-01T01:55:23Z</dcterms:modified>
  <cp:revision>46</cp:revision>
  <dc:subject/>
  <dc:title>Why the article of confederation needs to be replaced</dc:title>
</cp:coreProperties>
</file>